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8DE9-C89F-4733-B5EA-3E7474CD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A358-F355-4757-BCE2-D976AA1DA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9E65-A3FB-470A-883B-2FAE3BB63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EE3F-3B99-456B-9E1F-BD066CA32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EA2A-9B80-4531-9DE2-5929B425E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1CC9-20AC-48E4-90BC-24D6EF7CB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8019-E419-4F73-B945-31E18D79D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4AF1-5B32-4875-A0FC-08F0BB78B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5120" y="27432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F213-1FD1-4A08-B0BA-18FE4E2A6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81E-EA2A-4596-BF40-CCD1672A8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6FF4-D5A3-4A29-8236-869397CC7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8CE5-B28B-4C13-A354-A6401FEA7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amahi-logo"/>
          <p:cNvPicPr/>
          <p:nvPr/>
        </p:nvPicPr>
        <p:blipFill>
          <a:blip r:embed="rId2"/>
          <a:stretch/>
        </p:blipFill>
        <p:spPr>
          <a:xfrm>
            <a:off x="254160" y="146160"/>
            <a:ext cx="2539800" cy="79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5F21-26BD-4B63-A012-1E1CB6C7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hi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87360" y="6172200"/>
            <a:ext cx="8361360" cy="152280"/>
          </a:xfrm>
          <a:prstGeom prst="rect">
            <a:avLst/>
          </a:prstGeom>
          <a:solidFill>
            <a:srgbClr val="969e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menu-sub-bg"/>
          <p:cNvPicPr/>
          <p:nvPr/>
        </p:nvPicPr>
        <p:blipFill>
          <a:blip r:embed="rId3"/>
          <a:stretch/>
        </p:blipFill>
        <p:spPr>
          <a:xfrm>
            <a:off x="380880" y="914400"/>
            <a:ext cx="8382240" cy="152280"/>
          </a:xfrm>
          <a:prstGeom prst="rect">
            <a:avLst/>
          </a:prstGeom>
          <a:ln w="0">
            <a:noFill/>
          </a:ln>
        </p:spPr>
      </p:pic>
      <p:sp>
        <p:nvSpPr>
          <p:cNvPr id="7" name="AutoShape 15"/>
          <p:cNvSpPr/>
          <p:nvPr/>
        </p:nvSpPr>
        <p:spPr>
          <a:xfrm>
            <a:off x="380880" y="895320"/>
            <a:ext cx="8382240" cy="5429160"/>
          </a:xfrm>
          <a:prstGeom prst="roundRect">
            <a:avLst>
              <a:gd name="adj" fmla="val 625"/>
            </a:avLst>
          </a:prstGeom>
          <a:noFill/>
          <a:ln w="3168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Contributo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s.amahi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tup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ppermin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Application_Packag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E5F-7D8E-44C7-920C-ACEB4C99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7480" y="225000"/>
            <a:ext cx="6004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On Packaging App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843120" y="122724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utorial describing how to package application for one-click installation on Amahi. The basic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“Changes” to Au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“one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780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424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M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ut the steps to creat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‘scripts’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0068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209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240" y="6370560"/>
            <a:ext cx="76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Refer to wiki for details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Contribu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161800"/>
            <a:ext cx="84106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get stuck, don’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y the IRC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orums.amahi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a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Web App tab (‘soon’ to be a sub-menu in the Applications t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Web App ‘coppermine’, this creates the direc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/h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your H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command prompt in the direct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et http://superb-west.dl.sourceforge.net/sourceforge/coppermine/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ip/Untar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r –xvf 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contents of the unzipped web app folder into the htm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p –rf cpg14x/*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43120" y="12175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tutorial will use the application “Coppermine Gallery” as an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b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launch the Applic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pp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n’t work and will redirect you to complete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instructions to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he one-click installer normally runs as the apache user, so changing the permissions will not be required in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he database for use by coppermine using 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a-create-db-and-user 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eates a database with user and password named copper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, there is an RPM required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um instal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Mag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now ready to find the files/database create/edited by the instal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lete the instal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72000"/>
            <a:ext cx="1047600" cy="457200"/>
          </a:xfrm>
          <a:prstGeom prst="downArrow">
            <a:avLst>
              <a:gd name="adj1" fmla="val 50000"/>
              <a:gd name="adj2" fmla="val 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to see what installation files have changed. The “brute force method” is to take a “difference” of the original unzipped directory and the installed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 –r –N –U3 /var/hda/web-apps/coppermine/cpg14x /var/hda/web-apps/coppermine/html &gt; diff.install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view the created text f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.install.t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you can see the files 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config.inc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install.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file you will create part of the install script (each diff command can be used to apply the changes to the original fil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k out and understand the changes performed by the instal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b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he database creation script in the install directory. You will find three .sql script f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.Sql, basic.sql, update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inspection the first two have to be run to create the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with these shows they are NOT complete enough to build the installed database – we will use another method to do this. From the command line dump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ysqldump –-add-drop-table –u coppermine –pcoppermine coppermine &gt;db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unfortunately this makes a file too big to be in the install 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dump with the schema.sql file, a smaller install script for the database can be created – (see next page for the MySQL script!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 how the database was cre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pplemental Install Script for 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80" y="2013120"/>
            <a:ext cx="81151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.sourceforge.net/'),('home_target','index.php'),('custom_lnk_name',''),('custom_lnk_url',''),('enable_smilies','1'),('filter_bad_words','0'),('forbiden_fname_char','$/\\\\:*?&amp;quot;\'&amp;lt;&amp;gt;|` &amp;amp;'),('fullpath','albums/'),('gallery_admin_email','you@somewhere.com'),('gallery_description','Your online photo album'),('gallery_name','Coppermine Photo Gallery'),('im_options','-antialias'),('impath','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album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isibilit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s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mment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tegor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5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` varchar(32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_hint` 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lb_category` (`category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album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anned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an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_addr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piry` datetime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ute_force` tinyint(5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ba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ata about banned user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ridge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bridging data, not used when un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ategori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rent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c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arent` (`parent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os` (`po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owner_id` (`own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categori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mmen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medium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id` mediumint(1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author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body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msg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om_pic_id` (`p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comments made on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nfig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configuration opt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/'),('home_target','index.php'),('custom_lnk_name',''),('custom_lnk_url',''),('enable_smilies','1'),('filter_bad_words','0'),('forbiden_fname_char','$/\\\\:*?&amp;quot;\'&amp;lt;&amp;gt;|` &amp;amp;'),('fullpath','albums/'),('gallery_admin_email',''),('gallery_description','Your online photo album'),('gallery_name','Coppermine Photo Gallery'),('im_options','-antialias'),('impath','/usr/bin/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dict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Id` bigint(2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6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key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he keyword dictionary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card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ink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ate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ip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log ecar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xif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ifData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filename` (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EXIF data from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avpic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favpics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server side favourit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iletyp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tension` char(7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ime` char(3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ntent` char(1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ayer` varchar(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xtension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file exten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hit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arch_phras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hit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ictur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path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otal_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width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height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its` 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tim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ting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s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pproved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alleryic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rl_prefix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asthit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iti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owner_id` (`own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hits` (`hit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rate` (`pic_rating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id_approved` (`aid`,`approve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aid`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ULLTEXT KEY `search` (`title`,`caption`,`keywords`,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data about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lugi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ugin_id` int(10) unsigned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64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th` varchar(128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ority` int(10) unsigned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lugin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path` (`path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plugi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sessio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ssion_i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member` int(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essio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ses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sessions` VALUES ('9517276809000de5031787e9e3f3645d',1,1240951164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temp_data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nique_ID` char(8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ncoded_string` blob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stamp` int(11) unsigned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nique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emporary file data for multiple file uploa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group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quota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as_admin_acces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rate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send_ecard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post_comment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upload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create_album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ub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v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_form_config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ustom_user_upload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file_upload` tinyint(4) NOT NULL default '5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URI_upload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group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5 DEFAULT CHARSET=latin1 COMMENT='Used to store user group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` int(11) NOT NULL default '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ive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name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asswor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lastvisit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reg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_list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email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5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6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key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user_name` (`user_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users, not used when 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s` VALUES (1,1,'YES','admin','21232f297a57a5a743894a0e4a801fc3','2009-04-28 13:39:21','2009-04-28 13:39:17','','','','','','','','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ating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vote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id` mediumint(9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_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c_id`,`user_md5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3360" y="107784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ownload the file to see the actual text (if you want all the deta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One-Click Insta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this is the order of the process the one-click installer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tall (if any) RPM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stall (if any) RPM packages (cross check SHA1SUM for down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reate the “Web App” for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ownload (if any) ta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ross check tarball SHA1SUM for validity of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untar the tarball (assume the tarball untars into a single fol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rename the untarred folder ‘html’ in the instal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43120" y="124632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nformation is provided as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a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hings” (beyond the obvious) to complete for this inst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M dependencies: ImageMag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script based on the diff file created, and the need to creat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843120" y="12463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s on the Field to complete ar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Application_Pack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1920" y="3714840"/>
            <a:ext cx="6915240" cy="23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 /var/hda/web-apps/coppermine/cpg14x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9-12-31 16:00:00.000000000 -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++ /var/hda/web-apps/coppermine/html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09-04-28 13:22:42.000000000 -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,13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&lt;?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Coppermine configuration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server'] =                         'localhost';        // Your database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user'] =                         'coppermine';        // Your mysql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pass'] =                         'coppermine';                // Your mysql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name'] =                         'coppermine';        // Your mysql database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TABLE NAMES PREF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TABLE_PREFIX'] =                'cpg14x_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920" y="33814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config.inc.php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1160" y="2571840"/>
            <a:ext cx="84106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atabase for Copper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b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1920" y="1562040"/>
            <a:ext cx="6915240" cy="7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12286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install.lock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2840" y="3067200"/>
            <a:ext cx="6915240" cy="29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 html/sql/schema.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&lt;'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57880" y="4890960"/>
          <a:ext cx="9144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48909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86080" y="49244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ntent of this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0:24:46Z</dcterms:created>
  <dc:creator>GMW</dc:creator>
  <dc:description/>
  <dc:language>en-US</dc:language>
  <cp:lastModifiedBy>Gerald</cp:lastModifiedBy>
  <cp:lastPrinted>2008-09-26T02:01:20Z</cp:lastPrinted>
  <dcterms:modified xsi:type="dcterms:W3CDTF">2009-04-28T22:03:47Z</dcterms:modified>
  <cp:revision>41</cp:revision>
  <dc:subject/>
  <dc:title>Simplifying the Home Network</dc:title>
</cp:coreProperties>
</file>